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9C5A-0E52-42D7-A1C6-2993E9C2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991-006F-48EB-8094-BC13A5C8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2A1-8026-448E-979C-6C9E88E7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6AD-23CC-49E2-B44E-63C9B8C9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FC5B-C0CB-4E54-8B0C-AF350C23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A971-7A2A-41B0-80AE-CF5850AB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6C60-B52E-4CCE-9CE0-4D697076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21FF-DC43-445C-9F40-7126F342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B07D-1F7B-43FD-900B-69AEEA8B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29AB-49E6-4184-97DB-CE4F448F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47ED-D38D-4088-B937-AF01D3BD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272-A5F7-4A31-99B2-143C04DD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50DF-6780-422C-801C-5AB942A9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1C14-C28A-4B03-87D7-8CA3E2A8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C730-309D-47FD-B60A-27C98D07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A3EB-4785-47A1-9635-5A4CEEF9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E2A9-4AC7-4574-848D-7BB5407B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0B2-C93F-45EB-800E-F710CE56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94A-C931-4430-B3F8-8086E40D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F8D-CCCD-414E-A880-736A2EA2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581-F714-4685-A65E-62812C44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E12-9840-4DC6-8CB6-D4A15821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4B2-E2CB-4514-A8FC-DB70211D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7DE-3D21-4C60-95B7-AA4C7FFC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8D7C-154A-4790-8107-26F06C581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BBBE-C6A1-488B-91DC-A70B2CF4D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740720" y="5229360"/>
            <a:ext cx="992160" cy="992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59280" y="4797360"/>
            <a:ext cx="992160" cy="992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419640" y="1916280"/>
            <a:ext cx="992160" cy="992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d9d9ff"/>
                </a:solidFill>
                <a:uFillTx/>
                <a:latin typeface="Comic Sans MS"/>
              </a:rPr>
              <a:t>Y llygod a’r gath</a:t>
            </a:r>
            <a:endParaRPr b="1" lang="en-US" sz="36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26560" y="1557000"/>
            <a:ext cx="67820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ae pump llygoden, Lleucu, Llywellyn, Llinos, Llion, a Llywel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236000" y="476280"/>
            <a:ext cx="1141200" cy="1817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2565360"/>
            <a:ext cx="7848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aent yn bwyta caws yn y gegin. Mae Whisgars y gath yn ei gweld ac yn rhedeg ar ôl y pump ohonynt. Mae pob un ohonynt yn dianc i dwll yn y w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789360"/>
            <a:ext cx="77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Llinos oedd y drydedd llygoden nôl, gyda Llywela yn pedwerydd. Daeth Llion nôl ar ôl Llywela. Nid Llywellyn oedd yr ail yn ô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ff"/>
                </a:solidFill>
                <a:latin typeface="Comic Sans MS"/>
              </a:rPr>
              <a:t>Pa llygoden oedd y cyntaf nôl, a pha un oedd olaf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755640" y="333360"/>
            <a:ext cx="992160" cy="992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992160" cy="9921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79280" y="2492280"/>
            <a:ext cx="571680" cy="685800"/>
            <a:chOff x="179280" y="2492280"/>
            <a:chExt cx="571680" cy="685800"/>
          </a:xfrm>
        </p:grpSpPr>
        <p:sp>
          <p:nvSpPr>
            <p:cNvPr id="109" name=""/>
            <p:cNvSpPr/>
            <p:nvPr/>
          </p:nvSpPr>
          <p:spPr>
            <a:xfrm>
              <a:off x="179280" y="2492280"/>
              <a:ext cx="571680" cy="57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9280" y="2720880"/>
              <a:ext cx="57168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0:36:42Z</dcterms:created>
  <dc:creator>Carwyn</dc:creator>
  <dc:description/>
  <dc:language>en-US</dc:language>
  <cp:lastModifiedBy>Carwyn</cp:lastModifiedBy>
  <dcterms:modified xsi:type="dcterms:W3CDTF">2008-12-04T17:14:55Z</dcterms:modified>
  <cp:revision>6</cp:revision>
  <dc:subject/>
  <dc:title>Y llygod a’r gath</dc:title>
</cp:coreProperties>
</file>